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862-3EE9-4800-BFCB-E4E5C24D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7D4-CAC3-49D0-98FD-511A0D6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EE4-55D2-494F-931A-F041FFB8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AB5-A297-4CA6-8279-5A7118AB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B218-7FE5-44F4-B9FA-A1652C2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DC94-2E15-4D8D-BCC4-EACD9490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B86F-8FCE-4675-AB8B-305852E6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CA5D-F69E-482C-A8D2-FFADCBE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72F-997F-4BD1-A9A8-4CBD0EE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37B6-7FBC-45E4-A3E9-476998D8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4D8D-0868-48B3-A3E7-2C2A778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9CD-F0CC-4BC3-B1FA-14B679B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9D28-8F58-43D2-884D-7750F3E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5A4-A6A3-41F5-814E-7979FAD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6131-4BF1-4298-B784-1F50AE4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F3F8-E8B9-45D8-BDC2-3BEB614A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E2A-49D8-4498-8319-90181AC9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EDE1-F793-4E5B-8529-EA658EDF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9FA3-BD01-4EC1-BBC2-6C729A5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6597-10A9-4C91-9D21-49EA5F3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8CC9-C86A-4338-9E98-366A2FDF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AFEB-A67A-4DA4-A8A3-14807E5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244-DFD8-403E-B85D-D39944D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6E5C-72E0-428B-A21A-1E3D689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D946-CD1C-4E83-A124-B389687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66F6-B7CB-4649-873C-7A3230D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98B4-8EFF-4A4C-857F-595653F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5804-A2F1-47AF-9AE2-789895F5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118F-4ED6-49F0-B251-B5DBC419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556D-7D48-47CB-B5AF-2A41F84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CE27-6973-447D-A93D-CF7514F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F4B4-F755-458A-AB9B-1D204A10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F928-5917-46E9-9327-239565C7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E8F-CD04-4A59-B9CC-03F1633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E28B-E4F2-4DB1-A862-B39E681E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08D9-B6D0-42DE-BE04-6C51EC36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A6A8-728F-493F-9F1B-577ED4A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A684-B177-4E8D-A1FB-4A0DAA0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299D-9E8D-4029-9875-B4AB45D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B04E-431E-4BC5-B80B-8855D41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E40A-0FC8-4E7B-A2F4-211C52C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B58A-973C-4686-ADD5-9E619B12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7BD0-8B00-48D0-8EE9-31E6E26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CD4C-7B51-4A3A-9ACB-714E4B3C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D81-2311-41C0-8776-C83359A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811F-37C8-454A-B3CB-F48C29C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03A88-636D-48DD-905D-8D312BD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122E-C580-447B-840B-86433BD6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A71B8-4734-40DE-A5BF-439E44B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D5C2-20FB-4A83-A5C4-601FD4D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0969-7C33-4986-BEEA-A69926C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BC2B7-0789-49D6-9EAA-2A0C5BF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A202-73F5-41EA-A401-BC0DA87B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DB07A-4D07-43E1-9C27-8DA7C98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0A9F-3552-4CFF-BD72-512F98D0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60C-8DA5-4370-B53E-D276577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D11B-C093-40DB-AA3A-5C314D85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71C-1F97-4BC7-B661-F32E84E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887-EB31-42F0-8C41-C029BEC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431-8EF4-40B1-AB16-3D3CB59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CC91-E5E6-461E-A648-E5A78488A46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39F-FB7C-4A34-94D6-6C28A154ACC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7BF3-42FD-43FF-B4F8-0B8A7EDDF4C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AC4-2674-4BD1-A378-40ED5BE2784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0F9-8389-4EA5-B242-5844E92375B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651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втор: Кутькина Марин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98748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2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8517240" cy="4834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0"/>
          <p:cNvPicPr/>
          <p:nvPr/>
        </p:nvPicPr>
        <p:blipFill>
          <a:blip r:embed="rId3"/>
          <a:stretch/>
        </p:blipFill>
        <p:spPr>
          <a:xfrm>
            <a:off x="1285920" y="4857840"/>
            <a:ext cx="17715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возникли многогранник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многогранник, их виды и свойства?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встречаются многогранники в быт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1"/>
          <p:cNvPicPr/>
          <p:nvPr/>
        </p:nvPicPr>
        <p:blipFill>
          <a:blip r:embed="rId2"/>
          <a:stretch/>
        </p:blipFill>
        <p:spPr>
          <a:xfrm>
            <a:off x="1500120" y="442908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2"/>
          <p:cNvPicPr/>
          <p:nvPr/>
        </p:nvPicPr>
        <p:blipFill>
          <a:blip r:embed="rId3"/>
          <a:stretch/>
        </p:blipFill>
        <p:spPr>
          <a:xfrm>
            <a:off x="5857920" y="4357800"/>
            <a:ext cx="13525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тор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следовате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едопы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3"/>
          <p:cNvPicPr/>
          <p:nvPr/>
        </p:nvPicPr>
        <p:blipFill>
          <a:blip r:embed="rId2"/>
          <a:stretch/>
        </p:blipFill>
        <p:spPr>
          <a:xfrm>
            <a:off x="5286240" y="3857760"/>
            <a:ext cx="1162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7984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2" descr=""/>
          <p:cNvPicPr/>
          <p:nvPr/>
        </p:nvPicPr>
        <p:blipFill>
          <a:blip r:embed="rId2"/>
          <a:stretch/>
        </p:blipFill>
        <p:spPr>
          <a:xfrm>
            <a:off x="407880" y="658800"/>
            <a:ext cx="82915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учить источники информ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анализировать полученную информ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строить план изложения матери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ть презентацию, буклет, кроссворд согласно план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328680" y="1603440"/>
            <a:ext cx="7504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1:30:43Z</dcterms:created>
  <dc:creator>Admin</dc:creator>
  <dc:description/>
  <dc:language>en-US</dc:language>
  <cp:lastModifiedBy>Admin</cp:lastModifiedBy>
  <dcterms:modified xsi:type="dcterms:W3CDTF">2010-05-06T16:01:39Z</dcterms:modified>
  <cp:revision>15</cp:revision>
  <dc:subject/>
  <dc:title>  Наш многогранный мир   </dc:title>
</cp:coreProperties>
</file>